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4E2-3889-4241-A710-48023F02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A38-564D-41AC-99D1-27EEEA26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2F2-F2B1-4E4C-88E5-BE74CDE1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9E2-8569-45C7-9ABC-4076BA27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B2C3-F208-47C4-8655-993A0C3D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2BA0-2975-4AA4-9503-3937370E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2926-4854-422E-A4F3-430A95F5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4D5A-BCBB-4F2D-855B-F672F284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B85E-EC9C-4576-864C-5B71C26F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6117-D4D2-47E1-A0D1-9F05A7E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D502-41A7-4302-9CC1-D598D23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DC5-6DA3-4C94-A56E-0600A81C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8F66-9EA5-44AF-82AA-A85D8CB9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9E7A-74E3-46E4-9150-088BD57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B197-1E15-466F-83F5-4F5DFA09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126D-A21C-4150-8272-7F12C083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A733-8E78-46F3-B78D-B9223D2B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F5B-3633-47A0-8515-12B78B33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813-F3E1-4374-9731-42170708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05C-A189-41A3-AA9C-7300ADA6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D5E-582E-4E22-9599-EC2F109A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7C4-AAC0-44A6-A9B8-D320B187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0EF-A0AB-454F-8874-3EF38838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8CB-C57D-4858-8FBF-2C09E6D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D6DA-8E3D-40BC-81DC-370A1D14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466A-0766-4424-B334-2B03B8387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onetwoinfinity.ca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600"/>
                </a:solidFill>
                <a:latin typeface="Arial Black"/>
              </a:rPr>
              <a:t>Differentiating Instruction in Math: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2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t’s Not as Hard as You Thin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ril, 200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D2D-6CF1-438E-808D-B20DF03C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ome ideas you might hav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 expected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% of 72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0% of 7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2% of 1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% of 3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0% of 144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CDDD-A0C2-4C65-828A-9B25CF7B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like and differen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can get a lot of varied responses by asking students how two items (e.g. two numbers) are alike and differen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6D58-04B7-44D9-B957-E71DB557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50 and 550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 I asked you how these numbers were alike and different, what would you sugges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5E25-DACA-4452-B07A-21A3064E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For example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multiples of 5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multiples of 1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eve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have 3 digi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between 100 and 100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12CC-C55E-4CFB-9A93-57337167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For example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is more than 400 and one is les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is more than 500 and one is les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has two 5s in it and the other doesn’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needs 10 base ten blocks to show it and the other does no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10CC-E06F-4717-853D-46F35A713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nteg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combine two integers to get -2. What integers might you have combined? How did you combine them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BB81-A97A-43EC-86FB-437B5943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angram hous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ny four tangram pieces to build a shape that looks like a house. Use geometry words to describe your hous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F741-3FAE-4B5B-A208-F3753F38E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easuring a pumpki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different ways can you think of for measuring a pumpkin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t is delightful to see how creative students can be. This is only possible with an open ques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D228-B2DD-4670-BDC8-F2B3C8AF6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easuring a room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y might it be useful to measure the length and width of a room by counting how many steps you need to get from one wall to the nex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E796-A1C4-4318-88B3-F3C152966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rapezoid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an you make if you put together 3 isosceles trapezoids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5F84-5C87-4C59-956B-A4FE5AE4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Goa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oal is to meet the needs of a broad range of students, but all at one time– without creating multiple lesson plans and without making students who are often labelled as strugglers feel inferi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3F66-7EF6-4F32-829A-F2016835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any 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ow how to put together squares to create shapes with 8 sid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7702-36C7-4094-9E8C-8D6DBB0E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ontinuing a patter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 pattern begins like this:  2, 5,…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could it continu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76D-7FAD-44F0-BFB3-0C6898FB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 and 10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 expression involving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has the value of 10 when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= 4. What could the expression b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C07A-E288-4F4E-A919-54FB2777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00,000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ll everything you can about the number 100 00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E0CF-0C25-4C50-B354-CE40365A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y open question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pose student thinking to know what to do nex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ke students feel like their contributions actually make a differ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rich and broaden everyone’s lear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A47C-4C2C-49C9-92F7-A969088A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y work best if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re focused on a big idea (so lots can happen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38A9-E8E5-4676-BCFF-724DB1A3B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arallel Task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C4FE-E6FF-4F58-92FB-877C6AB2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at are they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se are two or more tasks that focus on the same big idea at different developmental levels but which are quite simila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re designed to suit the needs of different students, but so that the whole range of students can participate in a discussion about th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7FC0-ACD4-42CD-92F9-E9577E75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 Rac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ice as many people came in ahead of David’s dad in a race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were 112 runners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was David’s dad’s position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ice as many people came in ahead of David’s dad in a race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people might have been in the rac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BE12-F0CF-4682-8151-8DB4C326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Ordering valu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rder the given values from least to greatest. Will your order be the same no matter what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s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07DA-1E1F-418A-9B43-EFD41145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wo strategi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en tas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rallel tas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901C-BB95-418B-B1F5-83BEE012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Ordering valu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3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 -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341-88BD-4CA2-BFDC-F20FAC99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at is 10* 12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3 =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4 =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5 =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*3 =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*3 =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3 =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4 =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5 =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*3-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*3 =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3A9A-DE4D-4DDE-A3A8-09BFEBD1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at real life situation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ght 10 000 describ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ght 1000 describ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7D98-CF8E-4ED8-8CE3-4DA258624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 Divis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divide two numbers and the quotient is 2.5. What two numbers might you have divided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divide two fractions or decimals and the quotient is 2.5. What two numbers might you have divided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9BA5-E2DF-4295-BBAF-E05278FDA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For mor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nform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2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this resour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the NCTM boo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ublished by Teach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llege Press, NCTM,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&amp; Nelson Educ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91C7-25D4-411E-87C9-616F5BF7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Picture 1.png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o downloa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wnload from </a:t>
            </a:r>
            <a:r>
              <a:rPr b="0" lang="en-US" sz="2800" spc="-1" strike="noStrike" u="sng">
                <a:solidFill>
                  <a:srgbClr val="d76000"/>
                </a:solidFill>
                <a:uFillTx/>
                <a:latin typeface="Arial Black"/>
                <a:hlinkClick r:id="rId1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uick links– NCTM 200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173C-4398-4CFC-A8C7-B51EE4364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ome Histor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e have been using this idea for some 5 years now and it has become increasingly popular in Grades 1- 12 in all of the strand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D799-A6FA-46E8-A6FA-15E19418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Underlying princip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should be a “big idea” that can be addressed at different developmental levels using these strategi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should be choice in how a student proceed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109-1952-467D-A091-5E7841A49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 differenc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open tasks, you pose a single question that evokes a broad range of responses at many level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parallel tasks, you pose two different questions at different levels but tied in terms of the big idea to which they relate and their contex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123-CDFC-41D5-9C7E-F5E1599AD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Open task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D79-9935-40A7-93C7-19838F23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 answer is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provide an answer, for example, the number 42 and ask students to create questions with that answ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iversity of responses is interesting and informativ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1D2-9F00-4572-8B80-06DAFDD0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ll about percen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ke this true as many ways as you can: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2 is ___ % of ____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28A-7C89-4B3D-9DF8-3950D1C7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9:20:53Z</dcterms:created>
  <dc:creator>Geetesh Bajaj</dc:creator>
  <dc:description/>
  <dc:language>en-US</dc:language>
  <cp:lastModifiedBy>szuckerman</cp:lastModifiedBy>
  <dcterms:modified xsi:type="dcterms:W3CDTF">2009-05-11T13:27:46Z</dcterms:modified>
  <cp:revision>180</cp:revision>
  <dc:subject/>
  <dc:title>Slide 1</dc:title>
</cp:coreProperties>
</file>