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96E-EA27-486F-B0AE-4687E14B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00E-56F0-44DF-B8E2-5AAB1C9C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3E4-ED28-46F9-ACF7-676560F5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EDD-1AE3-4C34-991E-2D21D76B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44E6-DA24-406D-97D2-9BE3C79B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2A1B-6BDA-4F65-8520-D7537BC0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146A-4365-4C18-8113-F6359919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4DA4-E57E-43E1-9430-41A06C2E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4F9B-7708-49ED-86BD-972CAFDE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D753-0F1A-4B88-A13F-6B48E995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95A6-07B8-40CC-B177-EE85AA06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88F-6E10-40F4-88B4-FB5A1799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F051-4703-46BF-B80A-2BA3C800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C53D-0BE0-43D5-8829-8D09C0C7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C0DF-3C66-401C-B5CF-5B5EB5E7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75FD-F24C-4E0D-88EC-F01B9BF6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81DE-FCBF-4060-9216-B853E59D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5AE-66EA-4E8A-B8FE-1565D2B2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021-1786-416B-A19E-1DD5781B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21DA-6955-4104-9C96-DF981A01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725-2052-4E08-8ACF-4DA4C844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A458-D54E-456C-AF60-AA385C0C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23D-A81D-4D34-A770-373E717B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96A-0160-4E90-AE08-6053D43D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CB28-B007-4037-8389-399F87A05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0BA3-24F1-4D1D-AF16-B4C5F1417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onetwoinfinity.ca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600"/>
                </a:solidFill>
                <a:latin typeface="Arial Black"/>
              </a:rPr>
              <a:t>Differentiating Instruction in Math: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289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t’s Not as Hard as You Thin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ian Smal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pril, 200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B825-B32D-47CA-A4A5-7EE3D4F65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ome ideas you might hav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 expected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% of 72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0% of 7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72% of 10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00% of 3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50% of 144…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AF7F-E6BF-4D68-8158-53C93AE0E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Alike and different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ou can get a lot of varied responses by asking students how two items (e.g. two numbers) are alike and different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FB62-146B-4B0D-8E40-5F4E02049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350 and 550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f I asked you how these numbers were alike and different, what would you suggest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7E42-AE99-42B3-AB27-FF2427E99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For example…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oth are multiples of 50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oth are multiples of 10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oth are even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oth have 3 digit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oth are between 100 and 1000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B112-2CCF-4E03-933F-76C5751EB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For example…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ne is more than 400 and one is les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ne is more than 500 and one is les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ne has two 5s in it and the other doesn’t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ne needs 10 base ten blocks to show it and the other does not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7E3A-A16A-45D6-AAB3-372AE1C6D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nteger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ou combine two integers to get -2. What integers might you have combined? How did you combine them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4C43-1D4B-44AF-ABF3-FEB6EB07F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angram hous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 any four tangram pieces to build a shape that looks like a house. Use geometry words to describe your hous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3D53-7713-45F2-A1A5-845C77F7A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easuring a pumpki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many different ways can you think of for measuring a pumpkin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t is delightful to see how creative students can be. This is only possible with an open question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81D0-8FBB-4E9B-A759-F3F4B47A1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easuring a room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y might it be useful to measure the length and width of a room by counting how many steps you need to get from one wall to the next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CA68-FA72-4C1F-B3DE-9B0AC756D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rapezoid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can you make if you put together 3 isosceles trapezoids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1D29-703F-4D76-84DF-CF65CAED8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Goal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goal is to meet the needs of a broad range of students, but all at one time– without creating multiple lesson plans and without making students who are often labelled as strugglers feel inferio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00EB-4940-4AC4-8783-4A1413EA0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any squar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how how to put together squares to create shapes with 8 side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28BB-62E4-444D-B46B-63B2AAC9C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Continuing a patter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 pattern begins like this:  2, 5,…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could it continue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12C3-2424-4144-9639-E77477792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4 and 10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 expression involving the 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has the value of 10 when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= 4. What could the expression be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8958-484E-4FF3-8F80-F11062D03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100,000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ll everything you can about the number 100 000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0B20-9E16-4024-8F42-D52FCDE21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Why open question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pose student thinking to know what to do nex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ke students feel like their contributions actually make a differen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nrich and broaden everyone’s learn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D85F-E20D-409D-A9C4-39576D268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hey work best if…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y are focused on a big idea (so lots can happen)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7FE9-9BF0-46B3-878E-38EBE6498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Parallel Task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AF08-7AC7-4FED-8325-1C937ADAC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What are they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se are two or more tasks that focus on the same big idea at different developmental levels but which are quite simila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y are designed to suit the needs of different students, but so that the whole range of students can participate in a discussion about them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4D92-59FE-4450-ADBE-DEE472F4D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he Rac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ption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wice as many people came in ahead of David’s dad in a race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re were 112 runners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was David’s dad’s position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ption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wice as many people came in ahead of David’s dad in a race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many people might have been in the race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BC2D-278D-4D6E-B0B5-8F98D7004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Ordering valu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rder the given values from least to greatest. Will your order be the same no matter what the value of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is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AE89-BFF4-485B-B727-5E85C3AD3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wo strategi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pen tas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rallel tas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9841-C396-45C8-A109-7FD1C960F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Ordering valu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ption 1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3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+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 -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ption 2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+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+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94C4-907A-4778-87C4-D8C86FA20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What is 10* 12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*3 =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*4 =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*5 =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3*3 =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4*3 =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*3 =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*4 =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*5 =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3*3-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4*3 =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3DC1-912E-4BB6-B8C5-03AF3844F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What real life situation…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ight 10 000 describ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ight 1000 describ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1412-1CA1-49DA-B732-90242D868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A Divisio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ou divide two numbers and the quotient is 2.5. What two numbers might you have divided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ou divide two fractions or decimals and the quotient is 2.5. What two numbers might you have divided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8F37-C649-4A07-8D7E-68590105C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For mor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nformat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an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228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e this resour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 the NCTM boot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ublished by Teach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llege Press, NCTM,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&amp; Nelson Educ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1B7E-C548-41DC-898E-74A908352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Picture 1.png"/>
          <p:cNvPicPr/>
          <p:nvPr/>
        </p:nvPicPr>
        <p:blipFill>
          <a:blip r:embed="rId1"/>
          <a:stretch/>
        </p:blipFill>
        <p:spPr>
          <a:xfrm>
            <a:off x="4572000" y="0"/>
            <a:ext cx="4343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o downloa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wnload from </a:t>
            </a:r>
            <a:r>
              <a:rPr b="0" lang="en-US" sz="2800" spc="-1" strike="noStrike" u="sng">
                <a:solidFill>
                  <a:srgbClr val="d76000"/>
                </a:solidFill>
                <a:uFillTx/>
                <a:latin typeface="Arial Black"/>
                <a:hlinkClick r:id="rId1"/>
              </a:rPr>
              <a:t>www.onetwoinfinity.c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uick links– NCTM 200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E782-150B-4675-8ADA-FDB6AF6DF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ome Histor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e have been using this idea for some 5 years now and it has become increasingly popular in Grades 1- 12 in all of the strand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0436-C694-449E-9F01-C1C0CD9DC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Underlying princip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re should be a “big idea” that can be addressed at different developmental levels using these strategie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re should be choice in how a student proceed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E44D-2EDC-473C-BE6B-2E89B27DA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he differenc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 open tasks, you pose a single question that evokes a broad range of responses at many level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parallel tasks, you pose two different questions at different levels but tied in terms of the big idea to which they relate and their context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7A77-40AB-493D-AF83-667C0AAC1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Open task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A238-784B-45CA-9FF6-EE8ABC22E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he answer is…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You provide an answer, for example, the number 42 and ask students to create questions with that answe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iversity of responses is interesting and informativ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B026-57E4-444C-8340-2C0029AB1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All about percent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ke this true as many ways as you can: 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72 is ___ % of ____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DCC4-BE50-4810-8A8F-517F2BA00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9:20:53Z</dcterms:created>
  <dc:creator>Geetesh Bajaj</dc:creator>
  <dc:description/>
  <dc:language>en-US</dc:language>
  <cp:lastModifiedBy>szuckerman</cp:lastModifiedBy>
  <dcterms:modified xsi:type="dcterms:W3CDTF">2009-05-11T13:27:46Z</dcterms:modified>
  <cp:revision>180</cp:revision>
  <dc:subject/>
  <dc:title>Slide 1</dc:title>
</cp:coreProperties>
</file>